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AC47-76D0-40DE-9C8D-16950A4ED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9213-EA85-48F8-B9F6-BDA5EF2C4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5F7E-0139-4021-B1E8-857B74553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3F0C-4660-4C98-9680-D28F29E74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6D54-282D-4C43-803D-8126E9243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4086-947A-4F39-AE9B-1926A438C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31BD-F113-4637-AA6E-E098F6CC8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FBF-C387-402B-AB7C-93796C41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6A4-06A4-4331-9CB9-0FEA4714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D5D-D507-4FAF-A858-9582A14B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9F5-8805-48F8-83CD-A80FFFDB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067-329A-4EB2-AF9D-225FCB8B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AD1-88B3-443E-B7CE-6F9C0DDA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094-0B05-4D80-AEB6-0A0264F4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BA5-4ABD-4DE0-B45B-FF958FB0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CB5-8F74-4970-9677-CF1B39A8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25A-1611-45C1-9565-42868144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FC2-A3C4-4C01-A4B5-F35738AB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A47-0EA1-4E46-93FE-822D6C2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430A-9704-44FA-9545-DEF0009D9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slide66.xml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identify living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It is a 2-part ke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all 6 Kingdoms, using their Latin na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chaebacteria, Eubacteria, Protista, Fungi, Plantae, 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order from least specific to most specific, name the 7 levels of classification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dom, Phylum, Class, Order, Family, Genus, Speci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which kingdom to viruses belo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None.  They are not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living organis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basic structure of all virus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sid (protein coat) and Nucleic Acid (RNA or DN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2 diseases caused by virus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219320"/>
            <a:ext cx="6324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y 2 of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DS, common cold, influenza (flu), mononucleosis, smallpox, chicken pox, measles, mumps, etc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4 basic steps of viral replication (in the correct order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447920" y="2819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achment, Synthesis, Assembly, Rel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447920" y="205740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flu vaccine as an example, describe how vaccines allow your body to develop immunity against a vir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609480"/>
            <a:ext cx="6324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ccine contains inactivated flu virus particles;  injection of flu vaccine causes your body to produce antibodies against the flu virus;  when you are exposed to the real flu virus, your body</a:t>
            </a:r>
            <a:r>
              <a:rPr b="0" lang="ja-JP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 immune system quickly recognizes the virus and produces the appropriate antibodies against it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2 characteristics of all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27"/>
          <p:cNvSpPr/>
          <p:nvPr/>
        </p:nvSpPr>
        <p:spPr>
          <a:xfrm>
            <a:off x="1371600" y="1447920"/>
            <a:ext cx="63244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2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lls are prokaryotic; bacteria are single-celled; contain no membrane-bound organelles; have a single chromosome; reproduce asexually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3 main groups of Archae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mophiles, Halophiles, Methanog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3 main groups of protis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457200" y="4191120"/>
            <a:ext cx="7696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Ms Khan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imal-like, Plant-like, and Fungi-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difference between a bacteria that is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blig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erob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one that is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acult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naerob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bligat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ero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ust live in an environment with oxygen; 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acultativ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naero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efers environments with oxygen, but can live without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1 disease caused by a protist and the name of the protist (Latin genus) that causes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447920" y="2666880"/>
            <a:ext cx="63244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1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laria (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lasmodium viva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;  giardia (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Giardia lambl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; urinary tract infection (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richomonas vaginali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;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imilariti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ts and Fungi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371600" y="339084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2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lls are eukaryotic;  numerous organelle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e cell walls;  most are anchored in s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substrate;  stationary;  reproduction can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exual, sexual, or b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2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etween Fungi and Pla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447920" y="685800"/>
            <a:ext cx="63244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2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gi can have more than 1 nucleus in a cell (plants cannot);  starch is the main storage molecule in plants;  most plants have roots;  plants have cellulose, fungi have chitin in cell walls;  no fungi reproduce by s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0" y="1219320"/>
            <a:ext cx="1676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Classif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ir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acteria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t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ung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l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772400" y="1219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lich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ombination of a green algae (cyanobacteria) and a fungus, growing together in a symbiotic relationshi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How do the fungi help the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in mycorrhiza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ungi help the plant roots to absorb nutrients such as phosphoru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4 main groups of plants, and describe what distinguishes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71600" y="990720"/>
            <a:ext cx="63244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oss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no vascular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Fern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no s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ymnosperm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seeds, but no fruits (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ked</a:t>
            </a:r>
            <a:r>
              <a:rPr b="0" lang="ja-JP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seed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ngiosperm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 seeds produced in fruits;  fl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What are the 2 broad divisions (grou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in the Animal Kingd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rtebrates &amp; Inverteb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2 types of symmetry in animal bod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dial symmetry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ateral symme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science of classification calle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5 main groups of the Phylum Chorda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sh, amphibians, reptiles, birds, mam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imals are classified on the basis of presence or absence of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elo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What is a coelom and what is its fun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295280" y="1523880"/>
            <a:ext cx="632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oelom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a body cavity (located between the body wall and the gut) and it contains and protects the internal orga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any 3 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azy Creatures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our present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y 3 of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xolotl, aye-aye, angler fish, komondor dog, etc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udy of animal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o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44792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egories used to classify 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x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teria that live in the absence of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ligate anaerob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ategory of viruses that infect and destroy bacterial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terioph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371600" y="25146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history of the evolution of a species or a group of 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371600" y="2590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yloge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219320" y="281952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percentage of your final mark are the Diversity of Life questions on the Final Exa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219320" y="243828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2/115 marks = 19.1% of the ex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.1% of 25% of your final mar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.e. 4.8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method of naming organisms by their genus &amp; species call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nomial nomencl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dichotomous key used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rubina khan</cp:lastModifiedBy>
  <dcterms:modified xsi:type="dcterms:W3CDTF">2016-01-20T14:20:54Z</dcterms:modified>
  <cp:revision>98</cp:revision>
  <dc:subject/>
  <dc:title>No Slide Title</dc:title>
</cp:coreProperties>
</file>